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4.wmf" ContentType="image/x-wmf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A7C4-6AC2-4F45-BEEA-CCC7D767F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75C3-6179-4812-9ECC-8C7701D41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C212-4491-4856-9F3E-BA1F01F6B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977E-42D6-4B68-B669-468A619E9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0400-3F99-4288-93B1-E776BFF7D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F381-FA6A-4D7F-991B-DD3A142CE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black arrow squamo-columnar jxn—Z-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Z-line has undulating smooth cont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green arrow—gastric columnar epithelium above round black sphin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red arow—pink white esophageal squamous epit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ulcerations in 2-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AEBD-BD3E-4D7A-AE0C-30FA3C05B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20% of pat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78F8-7A6E-4DF2-8BDB-3DAA91CA0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8C7D-7111-4D85-B1F5-7081A437D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1950—Norman Barre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10-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black arrow squamo-columnar jxn—Z-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Z-line has undulating smooth cont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green arrow—gastric columnar epithelium above round black sphinc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red arow—pink white esophageal squamous epit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RFs—male, smoker, age, ob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F16F-BF8C-40D0-815E-0B00553E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B689-951A-41B4-B931-626B0243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2A0C-BECE-47C0-BF86-216DBC91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37E7-4984-4358-A780-7965A2D74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D946-2656-478A-ADB1-A3E1F637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49D5-92BC-4758-A373-C1FBF479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5CA6-0CD6-46AB-9D75-2D6068A4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E4E2-48ED-4502-AC83-89C6FB76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B922-7D54-4BF3-A02D-7D1C6F17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976A-EA7B-42DE-A264-A49AF58A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0429-4CFA-4D30-BCE3-2EA3BB91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23EB-6982-427C-A57D-1550A48F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FD66-C46C-4BDC-BEB6-9917D0001D45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solidFill>
            <a:srgbClr val="c6d9f1"/>
          </a:solidFill>
          <a:ln w="2844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Gastroesophageal Reflux Disease (GER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C:\Users\ashawky\Desktop\mcst logo.jpg"/>
          <p:cNvPicPr/>
          <p:nvPr/>
        </p:nvPicPr>
        <p:blipFill>
          <a:blip r:embed="rId1"/>
          <a:stretch/>
        </p:blipFill>
        <p:spPr>
          <a:xfrm>
            <a:off x="5867280" y="380880"/>
            <a:ext cx="2971800" cy="754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Microscopicall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1. Inflammatory cellular infiltrate in the squamous epithelium including neutrophils, esinophils and lymphocy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2. Basal cell hyperplas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3. Acute inflammation of the sub epithelium (lamina propri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663C-2621-433F-AB06-65C8FD6C4013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67720" cy="6505560"/>
          </a:xfrm>
          <a:prstGeom prst="rect">
            <a:avLst/>
          </a:prstGeom>
          <a:ln w="0">
            <a:noFill/>
          </a:ln>
        </p:spPr>
      </p:pic>
      <p:sp>
        <p:nvSpPr>
          <p:cNvPr id="8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B039-32FB-4705-9D6E-16EBD68FE225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" name="Right Arrow 6" descr=""/>
          <p:cNvPicPr/>
          <p:nvPr/>
        </p:nvPicPr>
        <p:blipFill>
          <a:blip r:embed="rId2"/>
          <a:stretch/>
        </p:blipFill>
        <p:spPr>
          <a:xfrm>
            <a:off x="4694400" y="1285920"/>
            <a:ext cx="547560" cy="1006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547120" cy="6410160"/>
          </a:xfrm>
          <a:prstGeom prst="rect">
            <a:avLst/>
          </a:prstGeom>
          <a:ln w="0">
            <a:noFill/>
          </a:ln>
        </p:spPr>
      </p:pic>
      <p:sp>
        <p:nvSpPr>
          <p:cNvPr id="87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337D-3881-4CFF-82CE-C1004E135518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Right Arrow 3" descr=""/>
          <p:cNvPicPr/>
          <p:nvPr/>
        </p:nvPicPr>
        <p:blipFill>
          <a:blip r:embed="rId2"/>
          <a:stretch/>
        </p:blipFill>
        <p:spPr>
          <a:xfrm>
            <a:off x="7705800" y="2657520"/>
            <a:ext cx="542880" cy="1006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</a:t>
            </a: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Clinical Manifestations of GERD</a:t>
            </a: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055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RD is most common in adults older than 40 years of age but also occurs in infants and childre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most frequently reported symptoms 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14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Heartburn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retrosternal burning discomfort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rely, chronic GERD is punctuated by attacks of severe chest pain that may be mistaken for heart diseas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B17D-1637-4B54-9BCE-3E04FCE4C957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28600" y="685800"/>
            <a:ext cx="86104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2. Regurgita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ffortless return of sour-tasting gastric contents into the pharynx without nausea, or abdominal contractions.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o be differentiated from vomit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3. Dysphagi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ifficulty in swallow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4. Extra-esophageal manifestation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aryngitis, chronic cou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D1B4-4541-4D44-BCCA-E3E1316C236C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72392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* Complications of GER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osive esophag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icture of esophagus due to healing by fibro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rett’s esophag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7B16-91F1-4AD8-9A3D-828FCE3B1E1D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294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  <a:ea typeface="Calibri"/>
              </a:rPr>
              <a:t>Esophagogastrodudenoscop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560" y="2209320"/>
            <a:ext cx="79246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dications (with biopsy if needed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 patients with alarm signs/symp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ose who fail a medication tr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ose who require long-term treat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tle 1"/>
          <p:cNvSpPr/>
          <p:nvPr/>
        </p:nvSpPr>
        <p:spPr>
          <a:xfrm>
            <a:off x="457200" y="274680"/>
            <a:ext cx="82296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* Investigations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057F-4C47-4339-A67F-31EE18119B1B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pic>
        <p:nvPicPr>
          <p:cNvPr id="107" name="Picture 5" descr="ei_25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D4A2-E263-4DFF-BC7D-52027C8FFBE7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609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rosive esophagit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ible for 40-60% of GERD symp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fig1_erosive_eso"/>
          <p:cNvPicPr/>
          <p:nvPr/>
        </p:nvPicPr>
        <p:blipFill>
          <a:blip r:embed="rId1"/>
          <a:stretch/>
        </p:blipFill>
        <p:spPr>
          <a:xfrm>
            <a:off x="1114560" y="1905120"/>
            <a:ext cx="6451560" cy="4682880"/>
          </a:xfrm>
          <a:prstGeom prst="rect">
            <a:avLst/>
          </a:prstGeom>
          <a:ln w="0">
            <a:noFill/>
          </a:ln>
        </p:spPr>
      </p:pic>
      <p:sp>
        <p:nvSpPr>
          <p:cNvPr id="11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010E-203E-4C08-BC6D-F12628F7EB42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76320" y="228240"/>
            <a:ext cx="3962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Esophageal strict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Result of healing of erosive esophag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May need dila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getImage"/>
          <p:cNvPicPr/>
          <p:nvPr/>
        </p:nvPicPr>
        <p:blipFill>
          <a:blip r:embed="rId1"/>
          <a:stretch/>
        </p:blipFill>
        <p:spPr>
          <a:xfrm>
            <a:off x="3733920" y="2819520"/>
            <a:ext cx="5029200" cy="3809880"/>
          </a:xfrm>
          <a:prstGeom prst="rect">
            <a:avLst/>
          </a:prstGeom>
          <a:ln w="0">
            <a:noFill/>
          </a:ln>
        </p:spPr>
      </p:pic>
      <p:sp>
        <p:nvSpPr>
          <p:cNvPr id="116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6B1E-BB91-4DC3-B4A0-50EEB08269EE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-360" y="456840"/>
            <a:ext cx="9296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Calibri"/>
              </a:rPr>
              <a:t>* Definition: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lammation of the lower part of the esophagus due to abnormal reflux of gastric contents into the esophagu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ue to weakness of the lower esophageal sphincter (L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gastroesophageal_reflux"/>
          <p:cNvPicPr/>
          <p:nvPr/>
        </p:nvPicPr>
        <p:blipFill>
          <a:blip r:embed="rId1"/>
          <a:stretch/>
        </p:blipFill>
        <p:spPr>
          <a:xfrm>
            <a:off x="380880" y="2514600"/>
            <a:ext cx="8305920" cy="426708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FAAC-C00D-4F85-A536-C522DDE04F85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52280" y="76212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Barrett’s Esophagu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ransformation of the stratified squamous epithelium of the lower end of the esophagus into intestinal epithelium (glandular metaplasia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he clinical significance of Barrett’s Esophagus is that it is associated with the development of dysplasia and subsequently adenocarcino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264D-BE49-4D6A-8C76-F42D5D87C69E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458200" cy="5248440"/>
          </a:xfrm>
          <a:prstGeom prst="rect">
            <a:avLst/>
          </a:prstGeom>
          <a:ln w="0">
            <a:noFill/>
          </a:ln>
        </p:spPr>
      </p:pic>
      <p:sp>
        <p:nvSpPr>
          <p:cNvPr id="12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B747-8644-4319-A2E1-B1D5DDAAEA37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FCBD1-677A-4977-9D86-142EA0D3900F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2536920" y="474840"/>
            <a:ext cx="5083200" cy="5651280"/>
          </a:xfrm>
          <a:prstGeom prst="rect">
            <a:avLst/>
          </a:prstGeom>
          <a:ln w="0">
            <a:noFill/>
          </a:ln>
        </p:spPr>
      </p:pic>
      <p:sp>
        <p:nvSpPr>
          <p:cNvPr id="129" name="Right Arrow 5"/>
          <p:cNvSpPr/>
          <p:nvPr/>
        </p:nvSpPr>
        <p:spPr>
          <a:xfrm rot="19750200">
            <a:off x="46080" y="2382840"/>
            <a:ext cx="3038400" cy="101916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ormal gastro-esophageal jun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ight Arrow 6"/>
          <p:cNvSpPr/>
          <p:nvPr/>
        </p:nvSpPr>
        <p:spPr>
          <a:xfrm rot="18594000">
            <a:off x="4713120" y="2971440"/>
            <a:ext cx="2401920" cy="89388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arrett’s esophagu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rcRect l="39617" t="0" r="0" b="0"/>
          <a:stretch/>
        </p:blipFill>
        <p:spPr>
          <a:xfrm>
            <a:off x="1066680" y="1143000"/>
            <a:ext cx="7016760" cy="4986360"/>
          </a:xfrm>
          <a:prstGeom prst="rect">
            <a:avLst/>
          </a:prstGeom>
          <a:ln w="0">
            <a:noFill/>
          </a:ln>
        </p:spPr>
      </p:pic>
      <p:sp>
        <p:nvSpPr>
          <p:cNvPr id="13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A2F6-BF1A-45DA-9740-779A09E057A3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:\Users\ashawky\Desktop\9655_303966136376490_1714807148_n.jpg"/>
          <p:cNvPicPr/>
          <p:nvPr/>
        </p:nvPicPr>
        <p:blipFill>
          <a:blip r:embed="rId1"/>
          <a:stretch/>
        </p:blipFill>
        <p:spPr>
          <a:xfrm>
            <a:off x="743040" y="914400"/>
            <a:ext cx="7431120" cy="8150400"/>
          </a:xfrm>
          <a:prstGeom prst="rect">
            <a:avLst/>
          </a:prstGeom>
          <a:ln w="0">
            <a:noFill/>
          </a:ln>
        </p:spPr>
      </p:pic>
      <p:grpSp>
        <p:nvGrpSpPr>
          <p:cNvPr id="137" name="Rectangle 2"/>
          <p:cNvGrpSpPr/>
          <p:nvPr/>
        </p:nvGrpSpPr>
        <p:grpSpPr>
          <a:xfrm>
            <a:off x="195120" y="5505480"/>
            <a:ext cx="8479080" cy="828720"/>
            <a:chOff x="195120" y="5505480"/>
            <a:chExt cx="8479080" cy="828720"/>
          </a:xfrm>
        </p:grpSpPr>
        <p:pic>
          <p:nvPicPr>
            <p:cNvPr id="138" name="Rectangle 2" descr=""/>
            <p:cNvPicPr/>
            <p:nvPr/>
          </p:nvPicPr>
          <p:blipFill>
            <a:blip r:embed="rId2"/>
            <a:stretch/>
          </p:blipFill>
          <p:spPr>
            <a:xfrm>
              <a:off x="195120" y="5505480"/>
              <a:ext cx="84790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304920" y="5562720"/>
              <a:ext cx="83055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 u="sng">
                  <a:solidFill>
                    <a:srgbClr val="ff0000"/>
                  </a:solidFill>
                  <a:uFillTx/>
                  <a:latin typeface="Verdana"/>
                </a:rPr>
                <a:t>References: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76092"/>
                  </a:solidFill>
                  <a:latin typeface="Verdana"/>
                </a:rPr>
                <a:t>Robbins and Cotran’s: Pathologic Basis of Disease.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E689-623C-4E50-9DF2-7F7FCACAEE99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* Patho-physiology of GER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14479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tratified squamous epithelium of the esophagus is resistant to abrasion from foods but is sensitive to ac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ubmucosal glands of the proximal and distal esophagus contribute to mucosal protection by secreting mucin and bicarbonat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6840" y="38052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tant (lower esophageal sphincter) LES tone prevents reflux of acidic gastric contents, which are under positive pressu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flux of gastric contents into the lower esophagus is the most frequent cause of esophagitis and the most common outpatient gastrointestinal diagno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ditions that decrease LES tone or increase abdominal pressure contribute to GE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3C23-5176-4B6B-B4AC-4847A28D6E42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680B-3A56-4663-85C7-28384E3105EF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" name="Picture 6" descr="C:\Users\ashawky\Desktop\stomach anatomy.jpg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477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* Risk factors: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Obesit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Pregnancy 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Delayed stomach empty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Increased gastric volum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mok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Alcoholism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Central nervous system depressant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Sliding Hiatal herni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In many cases, no definitive cause is identified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330120" y="1447920"/>
            <a:ext cx="8628120" cy="3909960"/>
          </a:xfrm>
          <a:prstGeom prst="rect">
            <a:avLst/>
          </a:prstGeom>
          <a:ln w="0">
            <a:noFill/>
          </a:ln>
        </p:spPr>
      </p:pic>
      <p:sp>
        <p:nvSpPr>
          <p:cNvPr id="6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CCC2-DE26-4DF2-B0A0-B4C79186FBF9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Morphological features of GERD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* Grossly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he lower part of the esophagus is red, and may shows eros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304920" y="366840"/>
            <a:ext cx="8448480" cy="6262560"/>
          </a:xfrm>
          <a:prstGeom prst="rect">
            <a:avLst/>
          </a:prstGeom>
          <a:ln w="0">
            <a:noFill/>
          </a:ln>
        </p:spPr>
      </p:pic>
      <p:sp>
        <p:nvSpPr>
          <p:cNvPr id="7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D6EA-4A26-4DCC-9CB0-A556E890F519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ight Arrow 3"/>
          <p:cNvSpPr/>
          <p:nvPr/>
        </p:nvSpPr>
        <p:spPr>
          <a:xfrm rot="2302200">
            <a:off x="1720440" y="1622160"/>
            <a:ext cx="979560" cy="4856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Right Arrow 7"/>
          <p:cNvSpPr/>
          <p:nvPr/>
        </p:nvSpPr>
        <p:spPr>
          <a:xfrm rot="11857800">
            <a:off x="4586400" y="5201640"/>
            <a:ext cx="979200" cy="48420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2:10:14Z</dcterms:created>
  <dc:creator>Howard J. McGowan</dc:creator>
  <dc:description/>
  <dc:language>en-US</dc:language>
  <cp:lastModifiedBy>Jihan Abdelmenam</cp:lastModifiedBy>
  <dcterms:modified xsi:type="dcterms:W3CDTF">2016-09-28T08:15:49Z</dcterms:modified>
  <cp:revision>113</cp:revision>
  <dc:subject/>
  <dc:title>Gastroesophageal Reflux Disease</dc:title>
</cp:coreProperties>
</file>